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B91C-068B-477A-A02F-BA0D355C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8AA4-EFD0-4F5D-9FF0-8494260C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433E-22C5-4113-930A-0ED5395B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C779-5341-4354-957E-E8853139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F0AA-DFEF-41C6-AA99-E1EDEF56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B620-5896-43D4-B9A5-3A0DD12E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D10A-A3C6-48A0-B0B7-1CA1289B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73C1-9E8A-4441-AFBF-291F4CF6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93AC-0566-4BBA-B466-57BF2D4E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C55B-FA66-4EC8-BDD2-348966FE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0A31-1E47-4E1F-90E9-FB089E26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8200-8C5F-4C45-A4A0-6F685439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625C-FB57-4C07-99B4-E92DB363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17EA-6436-404C-BD77-826CBB55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4097-5387-4EAC-A87A-A7EC3788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5A41-8565-4C05-9DDC-3247B473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5FF3-6F04-4EA2-8216-0DF17281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1E24-CCEA-4C18-9F49-87A375DF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43BF-7F89-4D3B-92D9-0A5B27C1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8432-74C5-45B1-BFA3-66E2C584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E2FB-C653-4AE8-B7F7-811505F2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31CF-9D99-4921-996B-69971A1B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60EF-9416-482B-8B89-6C32A182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6785-E878-4866-A551-AFAABE23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0A5C-2BFA-4EED-BFAB-5834C26CC232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4902-592F-431D-8296-0C602182E1D8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iMovie/6-12/Session 2 of 3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shop Titl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Lucida Grande"/>
              </a:rPr>
              <a:t>Students will share the following aspects of their project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Lucida Grande"/>
              </a:rPr>
              <a:t>Explain how the choices you have made regarding the title animations, fonts, and transitions have enhanced your movi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e have seen how the choices we make as editors can effect the story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e have observed how title sequences, and transitions can add to or subtract from the overall impact of a movie.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can we customize our movie using titles, transitions, and video effects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do we import digital images into iMovie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look and feel of our movie can be affected by the title sequence and transitions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s lesson will focus on the following skills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reating opening and closing title sequences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mporting digital still images into iMovi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dding transitions between scenes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hat are possible sources of digital images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 digital camera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nline download (www.pics4learning.org)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Scanning a digital picture into the computer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can titles and transitions enhance a movie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oday’s skill will focus on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mporting digital pictures into iMovi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reating a title sequenc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reating transition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Lucida Grande"/>
              </a:rPr>
              <a:t>(see the tutorial for lesson 2 for specific directions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en-US" sz="2400" spc="-1" strike="noStrike">
                <a:solidFill>
                  <a:srgbClr val="212164"/>
                </a:solidFill>
                <a:latin typeface="Lucida Grande"/>
              </a:rPr>
              <a:t>Take the next 30 minutes to import still images into iMovie. Add titles and transitions to your movies. After 30 minutes we will come back together and shar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2164"/>
                </a:solidFill>
                <a:latin typeface="Lucida Grande"/>
              </a:rPr>
              <a:t>Participant Activity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Connect the digital still camera to the computer (if available)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Download and save the sample digital pictures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Import digital pictures into iMovie and include two pictures in your movi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Add titles and transitions to your movi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599"/>
              </a:spcAft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Save your iMovie project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02:24:10Z</dcterms:created>
  <dc:creator>NYCD DOE</dc:creator>
  <dc:description/>
  <dc:language>en-US</dc:language>
  <cp:lastModifiedBy>NYCD DOE</cp:lastModifiedBy>
  <dcterms:modified xsi:type="dcterms:W3CDTF">2007-03-06T17:07:52Z</dcterms:modified>
  <cp:revision>30</cp:revision>
  <dc:subject/>
  <dc:title>Workshop Title</dc:title>
</cp:coreProperties>
</file>